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656-0AFB-4482-9E3C-5DEAC4A3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975-B984-4360-9050-DA6514B9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95D-39B7-49F0-AB7E-6F071854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524-689D-490F-89AB-2F6BDBDC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C408-93AE-4F77-B9B5-612D3786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093-E055-4D81-8103-EEC2645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3C8-3BC5-4672-87D3-F977289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92D1-5420-4562-AA45-04DAAB7D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DAC-22FD-498A-B8D5-8A976F7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0300-953D-4059-8D20-9B34E392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E6E-67C6-429C-957F-943FB17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C3A-14C5-4B55-BE87-0FB18AE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A90-03CD-4E44-9626-8A1C57A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6106-ED1D-41BE-B0F1-3E22E27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E802-46A8-4F8E-9617-F00B5D3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0957-1D45-4F5E-9A45-62F64B11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483A-6AF5-4E40-893C-2F10D5D4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0E54-7A0B-4428-BA24-11C5207A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CC73-832D-4EA8-8CE1-51D6281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884C-0E4A-4F09-AE3A-F38326A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074B-37AF-47AA-8238-7188C05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BD3A-BFE6-4D1F-8981-31F7D8E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519-1D57-42DB-A42A-F3FAFAC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4D4E-74E3-4663-BF8F-1AA7711C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F4384-4EF3-4BFC-A01E-62033DA8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D76C-AA91-4488-9101-DFB5CE98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3744-FFC2-4746-8ACC-C4D157D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E887-DC33-412A-83DD-13890AA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0ECB-5032-48D2-AB19-A9054434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9FED-11C0-480B-A874-DA62F9A3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F180-3D50-4E12-B8EE-34E447E1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A1D1-5FE2-47AD-A34E-02DC2C10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C282-895F-4F2C-9859-8495E10E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9DD-A96E-4A75-A63D-A0E2ACB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6B9D-7ADE-4EAE-838E-D7DC8C8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67AB-BD59-43D1-88BA-792B1898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9C89-DE63-41E6-A1B3-66FDC9A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15E8-B44F-4ED7-9629-43C1204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D741-37EC-49CD-B0DE-4D829DD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80EE-72F7-4D92-BF99-F451DDD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9575-C57E-4DC8-879F-9A2A2B6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E50A-F410-4BC6-AE37-50C5E9AB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663C-01D3-4660-83D2-5FD9A40D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1F7C-62AE-4A29-B21F-3FD48B5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D91-1E84-4DD2-B023-772C7FDC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C0C9-FB55-405F-8F6F-DB86ABDE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3E19B-1BEC-4F29-BF63-108E214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3C23-98E4-4983-AABC-D6B3DCB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F7CA-85A1-455C-BD86-119CB3D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FC1F-A3DD-45AC-BB20-5FA1009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A533-8F20-43BE-BC68-5C96FEC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6F67-3DA2-403F-8B4F-965B66A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1275-FEB9-4533-A187-6B0215C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B00D-165A-4E94-86CE-CC7E07E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2C02-EB8B-4454-A54C-F699BD2E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902-8B87-4C8F-8A61-6E0FF33D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E516-0639-4A42-94DC-41F4EEE7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E744-BDEB-4834-A9FC-B30FDB77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CB81-662D-48C6-BBB0-FD7F992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DCB70-AC12-40CA-8234-A42985A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4572-C51D-4B93-B4CB-8F279C4F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6A9C-FD4A-4797-B80A-C6BA369F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B459-BCEE-434E-9634-5660AF36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2B9B-45E8-40EB-B36B-0B33FCF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E158E-89C6-43C0-A3D3-F6B9063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28DBA-E29C-493B-96D3-9BF9414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83D-418E-41F6-B640-D0B6E84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3C73-E053-44C4-941E-A23DE45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F684-BC29-442B-A831-45361ACA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2C20-D255-48C5-B6FF-31C31546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576-C76A-4E8E-B90D-8B268F9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019-867A-4455-B2E4-4EA0117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810B6-554F-4724-8370-70F1115CA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440"/>
            <a:ext cx="234504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4F469-A348-4318-B714-11DA3721B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600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BDB51-0420-45BF-BF24-5CFBC4EED3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B6DF-DEF2-46BF-B7B9-408F62654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95034-64A9-4602-A100-2A8CBFB82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7600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527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15464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285A6-C021-41D3-8679-F7F0135BEB5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s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38640" y="294336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your text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338640" y="294336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214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your text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59000" y="279864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your text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828800" y="3228840"/>
            <a:ext cx="66294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6082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ivision Word Problem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7120" y="2563920"/>
            <a:ext cx="923616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re are 15 pumpkin bar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ach student in Mrs. Cleland class 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 pumpkin bar. How many pumpkin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Are le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2960" y="205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84240" y="205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2600" y="205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36960" y="205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16600" y="205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2960" y="2849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57320" y="2849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00240" y="2849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08600" y="281304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52960" y="281304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2960" y="364176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57320" y="364176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36960" y="364176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9880" y="364176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24600" y="364176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2960" y="439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92240" y="439740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36960" y="4362480"/>
            <a:ext cx="9144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1070280" y="-228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   15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47960" y="1833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90640" y="2448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82880" y="2556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5:41Z</dcterms:created>
  <dc:creator/>
  <dc:description/>
  <dc:language>en-US</dc:language>
  <cp:lastModifiedBy/>
  <cp:revision>1</cp:revision>
  <dc:subject/>
  <dc:title/>
</cp:coreProperties>
</file>